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E277-6C69-4D67-8D0E-B47F5363C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1109-9F96-41EF-A620-3FB6D43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C955B7-0802-404E-A6EA-BC6793C7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C7B28-F974-490E-80B5-B6818D57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1D1870-D92E-49CD-A8C8-A8576B1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58FFF6-D66B-4560-BC81-3DE69AAA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0C11D6-949D-4D49-B3D5-C582329D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DA8CF-443F-4313-8202-8049643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9E7E76-4D2C-4336-975E-975E8DC4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37776C-135B-48B9-ABBC-310A8B4D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20A3F-A119-40D4-8105-7B6FC62EC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86DE-BBE3-47B9-AA61-BB58DDCAE5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FA15-B656-4869-B8A1-78864142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36ED6-FCF9-456A-9083-DEC05DAE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C6FCD-015D-43C0-A246-D2F53247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87FA6-DF02-45FB-A59C-50FA9DDC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72D21-12D5-40C0-83B3-200845EC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9E3A1-C2F2-4D65-B180-1CA3463E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3CAEB-BBBD-477B-A4ED-17329E85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B71F9-11EE-40EA-B4B1-F522D290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F2D1-0CD0-4D05-B594-6E380FA3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8688-C792-47A8-AF19-FD3BC9D1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71AC8-5126-4DE0-9490-D710357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F90F5-7BA8-43E9-A62B-A4B60E81D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27C9-B8BB-4886-BBBC-E7D9F98219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B2350-29CD-4718-A740-F481F743E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0188FC-A857-477B-9011-B3560946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7CD094-18EE-4837-83B5-8875EB4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4BC268-22C5-4C3B-BB2E-1D24586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0A3D74-9405-42D3-9C6D-C517F8A3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767D1-52A0-43B8-B92E-C2E88B68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4DE80-1D49-40C0-822E-9471EC83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86B7C9-1466-4055-B8C3-786135F8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FE1A64-5BAD-48FD-856D-0CD8446D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D55A-A8CA-4DBD-9370-547114AD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13B0E8-344E-487A-8C54-DEF7647B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95FB24-ADDF-4897-AF5B-8EB57AE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91CA1-72B3-4350-BE77-8AE7821C86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9AF8C-1A55-4D8C-8F3B-D628C7542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8252D-3419-4E3F-A7D6-0C211CB5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06726-441B-4DA8-A51E-E591C8D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98816-5314-490D-9A39-E0606D87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2CD15-6804-4939-81E4-00751EA8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35347F-4476-41EE-AC30-102B7018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DF464-62B2-403B-8DAD-B5B7D115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0C254-B99A-4057-A840-A61B7DC3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042A1-69FE-4511-A614-00F9BEAA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62CBA-02E2-4781-BA80-B2769487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E33FB-B581-40EF-B8CD-7FB16D11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E1BCBF-E4FA-4B55-8CB1-D9FEC56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D2E4D-DD62-41F1-A092-DC4B7499C2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52B83-B288-4158-BE17-B0FFBE980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26CF5-C08C-4350-9AC6-626687AD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6807B-1841-468D-972E-E8BF91E4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6E763-7ECE-4727-ADC6-918F5636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7FBFF-F0BA-4A08-8A42-CFCDE58F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56E55-8564-4A1A-90B6-FDC3F6F9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43604-EB36-4548-A7CA-A740968D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7ED84-F534-43B7-90D8-6A16CA19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0565-684B-4389-9BE1-376E9655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F9355-D052-44F1-A7DE-2E8F32E3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867E1-D0D3-42E1-9A23-32FF6998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C637B-58F9-4845-8A48-6D1D659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C540-15E9-42DE-9DCF-851C89F96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4FCD-379C-47FA-86C9-761CB379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19DC5-D055-469F-9107-489A40A4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3DCA8-AC3D-401E-A19D-63D3B781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7B7A2-7801-4FDA-9C1A-B377C2A3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67472-B295-46EE-9CF1-A3EB4865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F01D6-89F3-4A56-9A8F-A18EAEA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2254E-B635-4C10-8619-1392C68F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C4F98-A6FA-46D2-AF0B-F290912A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CF0D6-1324-4FAA-A840-F56FE190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1F41F-41C0-48B8-A2BC-ADF68A1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79F61-6A3F-4D22-9BA3-CBFCD76F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304F3-FE7A-427F-9C33-6C0865C9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774C7-52C3-4255-B5DC-1FBE5EAD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16EF1-C2E3-4416-9C46-F2D85B572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C4E00-3620-4E64-B8B3-426A42F1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D4982-85FC-4413-9235-27BFE576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3A989-3BE0-4083-8F0C-ED9808ED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7FD17-1CD6-4432-AA03-08C7789F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6EBF9-A951-4FF9-9F98-AF31D682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C6FF3-4985-40E3-AE9F-62D908A1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D4C28-207C-4018-9577-786DD6F3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1743D-F80B-4AB2-B0E4-82006B3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A228B-D2A1-4CA2-A756-A7AD479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4C7A-2A8F-4B9E-8469-5019C826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5459-AD16-404A-8C3C-BB88E723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0973-0A7A-4630-B4AD-EB19E2EB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A900D-260E-4331-9131-A4592D22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3E748-A9C6-4787-B475-E5B9930F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F9D01-53E9-4DE3-BC73-647D7054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4695C-7DA0-4090-8C0A-4B7A0455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F8AE5-9B82-46B1-86B3-04054908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30DC3-9AB1-4B1F-B7FA-EF0BBBE7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68BF4-A584-4C7D-8865-7B9DEC6A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AE810-FA10-4015-9029-08E86CBA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42389-FA8A-492C-B87B-2A76A5ED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B229C-FD5B-4CF3-815B-481663E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55544-FC5B-4132-9836-827CA147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EFA70-A215-480E-8739-320B4AC5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7A0B9-09B5-4783-B323-7058A9E5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13FA1-B916-48A4-BE63-9C37A461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9E3D76-BA9E-4DFA-8829-18178B04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60FED-29CA-4D8B-8D9E-1F7CA6C2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1D906-CDFB-44DB-B5D6-81B2D6AE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BA408-2ECB-468B-B26F-6DE7555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993E1-7839-420F-BDF9-305256E8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994CB-49DB-4851-898D-CCD4DAC1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3EEEB-0C3C-4761-A9D9-EEC1145C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7C7F-0C6E-45A4-B4B7-A288BF6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D937-8D8A-4DEA-893E-3EA834AB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0B9B3-D886-4B25-ACC7-E99F5EFB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47DD9-3807-488A-BEBC-94680E7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F79E5-FEE1-4B41-A342-EA99941D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17F71-5036-41E9-B195-7FE2160F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64017-B2C1-41AE-B1EE-ABD79402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31671-0BDD-47B7-A712-EE7EA8DD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FB880-6AA0-45FF-946C-F66C53D5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9B18E-E009-455D-8EDE-D8EAC791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78E80-1799-4436-905A-C11E7E15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DAD26-BC8C-4615-AE3F-BDB488B1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74ED2-755D-4988-BBF8-05EE7A02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14001-92A2-4575-A0D6-D8101E2D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FFB46-FF9D-4722-99F3-A404624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DF481-2015-40B7-8D7E-5EA93E2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1A349-3DF0-4BFA-AC02-59ADA9F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40411-97BC-442F-A499-7719C421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A9A15F-BF6B-425F-BA3E-1C20ABB8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60CFCD-D9AC-43F6-9B95-1C8D9CE6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D25ABC-0B66-4410-B812-6AC48F22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57DB6E-F0BB-4204-9E85-F01C7B44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86A32-9D6E-42B3-8333-9B0669FB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5F3F-FA0D-4CEE-8BA9-E0B649F4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3C4E24-F71C-45D4-BE92-DBD6F7DC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62717-66F9-48B2-BA56-F54310BD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0D02B-003D-41EE-8D23-EDDB54E6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3E64B-3A42-427A-9847-9D233DBA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A1868-7FDA-4381-87FA-51F2822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AEDDE-B913-434E-A520-055D9E0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0C1FF-0D28-4BD7-91D8-029363F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7FA0E-6F32-4096-8E0E-95254731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5B51D-9F7D-4DC6-B1D9-0D04FC57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C6057-C9B3-452A-8E9F-D923EE1D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414C1-6117-4F81-B4E2-CEBAC417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A6BA7-BB28-4B56-AB15-33A4FD9E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E6768A-08BE-4049-9843-611422F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6B9B2-C7F6-4B32-8AD4-83E5AC0E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3C4D9-A197-4D77-B7AE-0F82AB63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85860-6FE9-450D-9244-947EFF43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1473F-AF6B-4051-9E70-39B4BDDC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6BDCA-FBF0-4D38-AD7D-C612E5A6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5909D-043C-4F7D-B274-0EDFCC01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59B1C-8C2D-41E8-BC9B-D0C7ED4B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A404E-9FFD-4388-8D0A-BF335609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38028-585E-4488-AD38-E62D95FB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F2EE9-B113-40CA-B3DD-3F74CD59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A518C-1A0D-4F45-A8FE-1B24B683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001A3-9518-416C-A646-98764D1D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2617F-66ED-4B67-BEEC-B9DDFB79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70C0A-73B3-44C8-AB44-AFD5EF11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CBDFAC-81E1-4C67-9F05-9084C5FE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FA7450-ADDF-431F-AB27-FAE77CC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645888-74F8-4406-A8F7-D44F73D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23449-DC69-466F-BD28-5DF5D6DB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1A1E48-D911-4BAC-BD17-5DF2939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82295-FDD7-4391-A774-4BD3B1C017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38E965-7326-410C-8FAF-8007A25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625566-EA7B-45E7-B959-EB534DB9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956B5C-77AC-4983-BF0F-4A54B8BF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9AC30-C30E-4628-9F06-135426B0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6740F8-3D45-4016-9A76-9002C1E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BF6295-E4A8-4A46-BC44-4E59BB18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6B01B7-10B5-4D90-BBFA-7EBCEA6F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9D69C-2D7A-420C-8245-EF8CEF35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6223F-2FBE-46CA-BDB7-043FEC66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6700F-CE85-4397-9500-057EB5CB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0E6432-06E4-46B9-BECF-61A34AF7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9F537-E8F4-4405-A439-E38C0050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6718BC-9800-43C8-BFF2-5516959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0EABD6-FF39-4F2E-B976-CFB9042B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EFED8-B620-4BC9-9200-50A9C755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F0608-2779-4035-A797-6B49C772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4A64D-E06B-4017-A2E1-3E10608F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2B9207-20E6-403F-80EC-899B8CC6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7FB97-4C7C-41D5-B9DA-C9D18A3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A38A4B-CBE9-4AEA-91A7-753C1E3A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C69B2-C790-418D-8BB7-556F4C83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99656-90E9-4A34-8076-7539BC4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BC858-A7F4-49B3-AD5E-63278928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7BAD9-7393-4802-BC73-0627697D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A3723-1647-43DD-9D25-2DD57D8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2D26C-0702-445A-A35A-7F7C1F91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FDD6C6-98F8-43A4-A9D2-C124A4AA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F6592-DCEB-4133-88CE-7B1628A6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08521F-DC31-4D9A-983C-28171F46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71FF4-A01C-4D29-87C0-5DD8F890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7782F-213C-4F83-BD88-79D6FDFF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1C3A12-D539-4BCD-893A-82F748C0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502CB-C3ED-41AF-B682-DC93F97D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0CA38-9D5B-43D9-AB27-A772153F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699A8-E607-496E-A3E9-2F2D9961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7D4B6-6BDD-4BB3-9283-3EC8A51D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37991-2157-42B1-83E0-AD78C69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FDE90-5ADC-4F6C-9652-9C41988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2948A-9098-48DC-B811-6583D51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FFDA9-D1A5-464F-B189-24D2415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B0334-F6C4-4D1D-B69E-0CF2D6D0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BCDE05-DF2A-4E9E-BACB-F2D0F42E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48029-814A-4D0D-915E-09A67E6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B4700-E25C-423D-A490-2A5A2E7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79A8B-5D03-4682-BEBC-84D48B93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806432-BD99-471E-AB05-A019C1DD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8F9842-CAB9-43F0-BFF3-0BD1888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A0925-46F3-409A-A1DC-3375238D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42E5A-32F5-4968-9BA4-B76EA8A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D0C993-91CE-4297-9FA6-2BE554A3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DC7CA-1ABF-4642-B56B-1B6CAC3B51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392C-BA1C-4CA4-9071-36ECBE2D60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0D27-B2EF-4CE1-A80C-C0E56A1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70F0-A935-463B-A3F3-2CD4273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47740-87AB-4CD3-9084-B2F4C87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3ACB-6839-437A-B2BC-295D873D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E1F7F-1B7A-4801-B8D1-55D397C5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5495-6B8E-4003-A787-0A306A97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E654-5197-4260-B219-5048DDFB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4B22F-D8BF-411A-B57C-75CB193D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A4B7-E026-4667-8ACF-8F8BA612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8D3C-BF6E-4E1B-96B4-6E4E2EC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153C-AD5B-42FE-95A2-57AF766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01AD-A054-4CB7-A7A8-94C0F6E808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99D51F-C8C6-40B9-AC23-D71B20BA82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5521-E1A2-4F22-A4BA-C2634BB7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EE7A7-8110-46D8-8DDF-B6CE0D6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E5EF3-1EA4-414B-B42F-3419C41E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C8A9D-0B90-40F2-AFA9-1F68C0A3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E6856-9891-4FA6-B1AA-39D23F37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BCD16-6FB1-43FD-9657-077435E5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2F768-38E5-4B10-BEF5-52436ADC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F211B-0B09-4F5A-BEEF-45040E22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0BF33-DBBE-4448-88BE-03818F89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862F9-5E4C-49E5-86F6-D5292EFB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ED219-D62F-4C27-8F10-77650DCF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21DB-59A0-41BD-9CD9-7731E9DD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6E931-5FBC-4B3C-A308-A27A2376F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512BF9-4FFB-4B63-850A-145197583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4D439-3BF7-44C9-8EFF-0D4C54B0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8F194-5280-436C-8256-A2DED2BC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F76677-A85B-41D7-8229-0B02CA56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868F47-5090-4054-BD34-B51A08D4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341BED-95C3-4675-A6F4-311B1E68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BFC8FD-4DEE-4663-869F-5539BCEC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030A29-F603-4868-9A80-E45579A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80078-84EE-40F8-BF2A-0FEF8FA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9735-029B-4FB7-83BE-BFD8653D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0AE0CA-A0EB-47A0-9440-2B14979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CD37C3-7CFD-47B1-BAA4-08F7C019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B090D-D648-4CAC-8CE0-D36FF44743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2072E-48E7-462F-81FC-274788207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2FFF-F429-4D89-B66B-9920C5C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2B332-C614-4C95-A5AC-0A5FF520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7977-BF4F-4F17-846D-5EED413E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B1B1E-F8B8-4F2B-84ED-4A55FEB5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1852F-8DFB-4848-B421-54D3D9E7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CCCC-0CF5-4FE9-886F-B685158B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6901-D122-41C1-A27D-ADAAA378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EE6A5-2464-4427-B164-C9E9BAB4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C42F6-996A-453E-AA9D-50682920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718E7-C072-4F30-91C0-E455657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B6C6-29C0-4B77-B7AC-6B0B4E59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2690B-18AB-45D0-9E3C-6DB96F17F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45626-48A0-4795-8884-FD269800D0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D6436-7BE8-40AF-BDF9-8AF6C20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CE8159-1AEE-43BF-AD93-F948435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806062-9387-4806-8319-825A2596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23547-5729-4054-960D-77575F9B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79630-25C1-4959-B596-2797DC01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C6ED4-901F-4DA7-AD79-8F890D7D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58656-6915-4500-96EF-7C8C7588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BFA59A-540D-404B-BFF6-D813525F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2EF64-C7E3-48D9-B235-A211F93D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43A69-573F-4B7C-AD83-E346F144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EC28A-8F18-4C82-961D-DDC436A4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8ACBA5-454C-4885-9780-747E59462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E9C86A-9169-43CA-8CB4-9E5AD8A5F9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BC6B10-78E8-4858-8323-1F2F842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38813A-C0AC-4C94-9183-90891593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5310-3A19-447E-AB94-1DDB7363D5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50C7-8E61-41E0-87B9-3B20BDC84B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2E4E-1B55-4C8D-9AD2-C5D50D1A70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DDD-8A8C-455A-829D-E050982E53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6919-313B-476C-ADC7-8AC3A93EB4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87C8-1232-4A20-AA0E-B5C77EFF78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CDF-5C91-42DF-914C-584235A4CA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8CE-2CC5-4B91-8958-76026EB6F5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9D36-B69B-4349-A87C-2E2FAA061B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9E64-A15E-4EEE-9397-0139C91515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AB50-948A-4683-BD0C-989C79D65A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6A6A-FD56-4497-9469-1F962B8D0F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8A3A-D278-4811-AFD3-B5499B20A8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B3CF-4F98-4688-A817-3D8F6A28BE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F19-7CE3-4962-9B93-1655764A64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0ECE-8272-4B98-B6A5-F6C98C054D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D64E-019F-472D-979C-16360112FB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F69-F8AA-48E8-A02C-F88405FE9C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54BE-DCBD-48D4-968E-AAD7AD0342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1E44-0FE5-487F-B7E7-BCE4E7A4AD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D1C-9BDB-435E-9236-2DB606AB03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DC67-F39A-4DDC-AC1A-C71F057602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6066-E240-4964-9C26-D83DA13419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C8B0-1FD4-4490-8C93-1277A65CB7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49600" y="2795760"/>
            <a:ext cx="646200" cy="53496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 理 和 复 习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"/>
          <p:cNvSpPr/>
          <p:nvPr/>
        </p:nvSpPr>
        <p:spPr>
          <a:xfrm>
            <a:off x="714240" y="121428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一一得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2"/>
          <p:cNvSpPr/>
          <p:nvPr/>
        </p:nvSpPr>
        <p:spPr>
          <a:xfrm>
            <a:off x="714240" y="185724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一二得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3"/>
          <p:cNvSpPr/>
          <p:nvPr/>
        </p:nvSpPr>
        <p:spPr>
          <a:xfrm>
            <a:off x="714240" y="250020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4"/>
          <p:cNvSpPr/>
          <p:nvPr/>
        </p:nvSpPr>
        <p:spPr>
          <a:xfrm>
            <a:off x="714240" y="314316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5"/>
          <p:cNvSpPr/>
          <p:nvPr/>
        </p:nvSpPr>
        <p:spPr>
          <a:xfrm>
            <a:off x="714240" y="378612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6"/>
          <p:cNvSpPr/>
          <p:nvPr/>
        </p:nvSpPr>
        <p:spPr>
          <a:xfrm>
            <a:off x="714240" y="442908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7"/>
          <p:cNvSpPr/>
          <p:nvPr/>
        </p:nvSpPr>
        <p:spPr>
          <a:xfrm>
            <a:off x="2071800" y="185724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二二得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矩形 8"/>
          <p:cNvSpPr/>
          <p:nvPr/>
        </p:nvSpPr>
        <p:spPr>
          <a:xfrm>
            <a:off x="2071800" y="250020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9"/>
          <p:cNvSpPr/>
          <p:nvPr/>
        </p:nvSpPr>
        <p:spPr>
          <a:xfrm>
            <a:off x="2071800" y="314316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10"/>
          <p:cNvSpPr/>
          <p:nvPr/>
        </p:nvSpPr>
        <p:spPr>
          <a:xfrm>
            <a:off x="2071800" y="378612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矩形 11"/>
          <p:cNvSpPr/>
          <p:nvPr/>
        </p:nvSpPr>
        <p:spPr>
          <a:xfrm>
            <a:off x="207180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12"/>
          <p:cNvSpPr/>
          <p:nvPr/>
        </p:nvSpPr>
        <p:spPr>
          <a:xfrm>
            <a:off x="3429000" y="250020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13"/>
          <p:cNvSpPr/>
          <p:nvPr/>
        </p:nvSpPr>
        <p:spPr>
          <a:xfrm>
            <a:off x="3429000" y="314316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14"/>
          <p:cNvSpPr/>
          <p:nvPr/>
        </p:nvSpPr>
        <p:spPr>
          <a:xfrm>
            <a:off x="3429000" y="378612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5"/>
          <p:cNvSpPr/>
          <p:nvPr/>
        </p:nvSpPr>
        <p:spPr>
          <a:xfrm>
            <a:off x="342900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16"/>
          <p:cNvSpPr/>
          <p:nvPr/>
        </p:nvSpPr>
        <p:spPr>
          <a:xfrm>
            <a:off x="4786200" y="314316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17"/>
          <p:cNvSpPr/>
          <p:nvPr/>
        </p:nvSpPr>
        <p:spPr>
          <a:xfrm>
            <a:off x="4786200" y="378612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18"/>
          <p:cNvSpPr/>
          <p:nvPr/>
        </p:nvSpPr>
        <p:spPr>
          <a:xfrm>
            <a:off x="4786200" y="4429080"/>
            <a:ext cx="135756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9"/>
          <p:cNvSpPr/>
          <p:nvPr/>
        </p:nvSpPr>
        <p:spPr>
          <a:xfrm>
            <a:off x="6143760" y="378612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0"/>
          <p:cNvSpPr/>
          <p:nvPr/>
        </p:nvSpPr>
        <p:spPr>
          <a:xfrm>
            <a:off x="614376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1"/>
          <p:cNvSpPr/>
          <p:nvPr/>
        </p:nvSpPr>
        <p:spPr>
          <a:xfrm>
            <a:off x="7500960" y="4429080"/>
            <a:ext cx="1357200" cy="642960"/>
          </a:xfrm>
          <a:prstGeom prst="rect">
            <a:avLst/>
          </a:prstGeom>
          <a:noFill/>
          <a:ln w="12600">
            <a:solidFill>
              <a:srgbClr val="eee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Arial"/>
                <a:ea typeface="宋体"/>
              </a:rPr>
              <a:t>六六三十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22"/>
          <p:cNvSpPr/>
          <p:nvPr/>
        </p:nvSpPr>
        <p:spPr>
          <a:xfrm>
            <a:off x="785880" y="26002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三得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3"/>
          <p:cNvSpPr/>
          <p:nvPr/>
        </p:nvSpPr>
        <p:spPr>
          <a:xfrm>
            <a:off x="2143080" y="26002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三得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24"/>
          <p:cNvSpPr/>
          <p:nvPr/>
        </p:nvSpPr>
        <p:spPr>
          <a:xfrm>
            <a:off x="3500280" y="260028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三得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5"/>
          <p:cNvSpPr/>
          <p:nvPr/>
        </p:nvSpPr>
        <p:spPr>
          <a:xfrm>
            <a:off x="785880" y="321480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四得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6"/>
          <p:cNvSpPr/>
          <p:nvPr/>
        </p:nvSpPr>
        <p:spPr>
          <a:xfrm>
            <a:off x="2143080" y="3214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四得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27"/>
          <p:cNvSpPr/>
          <p:nvPr/>
        </p:nvSpPr>
        <p:spPr>
          <a:xfrm>
            <a:off x="3500280" y="3214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四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8"/>
          <p:cNvSpPr/>
          <p:nvPr/>
        </p:nvSpPr>
        <p:spPr>
          <a:xfrm>
            <a:off x="4786200" y="32148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四十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9"/>
          <p:cNvSpPr/>
          <p:nvPr/>
        </p:nvSpPr>
        <p:spPr>
          <a:xfrm>
            <a:off x="785880" y="3857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五得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0"/>
          <p:cNvSpPr/>
          <p:nvPr/>
        </p:nvSpPr>
        <p:spPr>
          <a:xfrm>
            <a:off x="2143080" y="3857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五一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1"/>
          <p:cNvSpPr/>
          <p:nvPr/>
        </p:nvSpPr>
        <p:spPr>
          <a:xfrm>
            <a:off x="3500280" y="3857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五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2"/>
          <p:cNvSpPr/>
          <p:nvPr/>
        </p:nvSpPr>
        <p:spPr>
          <a:xfrm>
            <a:off x="4786200" y="385776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五二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3"/>
          <p:cNvSpPr/>
          <p:nvPr/>
        </p:nvSpPr>
        <p:spPr>
          <a:xfrm>
            <a:off x="6143760" y="38862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五二十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4"/>
          <p:cNvSpPr/>
          <p:nvPr/>
        </p:nvSpPr>
        <p:spPr>
          <a:xfrm>
            <a:off x="785880" y="45007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一六得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5"/>
          <p:cNvSpPr/>
          <p:nvPr/>
        </p:nvSpPr>
        <p:spPr>
          <a:xfrm>
            <a:off x="2143080" y="4500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二六十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6"/>
          <p:cNvSpPr/>
          <p:nvPr/>
        </p:nvSpPr>
        <p:spPr>
          <a:xfrm>
            <a:off x="3500280" y="4500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三六十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7"/>
          <p:cNvSpPr/>
          <p:nvPr/>
        </p:nvSpPr>
        <p:spPr>
          <a:xfrm>
            <a:off x="4786200" y="45007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四六二十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38"/>
          <p:cNvSpPr/>
          <p:nvPr/>
        </p:nvSpPr>
        <p:spPr>
          <a:xfrm>
            <a:off x="6143760" y="45291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五六三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37" name="圆角矩形 40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8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039" name="椭圆 42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0" name="椭圆 43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椭圆 44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2" name="椭圆 4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3" name="圆角矩形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4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6:00Z</dcterms:created>
  <dc:creator/>
  <dc:description/>
  <dc:language>en-US</dc:language>
  <cp:lastModifiedBy>万润仪器贸易公司</cp:lastModifiedBy>
  <dcterms:modified xsi:type="dcterms:W3CDTF">2020-08-21T00:34:4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